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F6D-ED03-4950-B77D-CDCA31A5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3C0-3D84-4FCD-8C5D-66D9989E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508-D998-4B1D-888D-166FC497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DE1-2EFB-411A-AB2A-A05B9CBC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5CC-0C23-44CC-B0B2-2B27D728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853-C048-4A30-800C-FA59024D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AE6-5FD1-4594-B989-02C51AB1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279-D802-452E-A759-D00198AD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491-6858-42C4-B50E-D1752F7A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FA9-F326-4443-93A4-D182837F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3C4-1303-4E8C-9583-AE8566EC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E1E-61CE-41F1-B395-89E7BA43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452C-125A-471A-B8DE-F9897F4B2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58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ben Berrio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erto Rico To Write It’s Own Constitution 195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ident during the time called Muñoz Marín passed a law called public law 6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law 600 let the residents of puerto rico to make their own constit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basically means that puerto rico is self-governing. (Its not controlled by outside for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6:47:36Z</dcterms:created>
  <dc:creator>Administrator</dc:creator>
  <dc:description/>
  <dc:language>en-US</dc:language>
  <cp:lastModifiedBy>Administrator</cp:lastModifiedBy>
  <dcterms:modified xsi:type="dcterms:W3CDTF">2011-01-19T17:06:44Z</dcterms:modified>
  <cp:revision>2</cp:revision>
  <dc:subject/>
  <dc:title>Puerto Rico To Write It’s Own Constitution 1952 </dc:title>
</cp:coreProperties>
</file>